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F74-D6E5-4D1F-8D17-86052960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CF8E-D1D1-443D-B988-4EDB6700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to read this slid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905D-9EBF-4834-993B-30ED3F979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7B5-3E92-4C38-9CF3-D538B175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286-D095-4122-8C77-09F2591B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5FEC3-B805-472F-A39B-F78C51FF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8E8D5-5913-4EB8-9548-482173C4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356DD-8BC9-4CA5-8E61-EBCC5F6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EFFC4-085D-497D-A5E8-6A31E631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1ADCA-13AC-4E26-AB5A-80F83A5D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97533-81B7-4AE0-A5BF-D9289BE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D6F73-CA4F-4DF1-B078-BD5B01FA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19B1D-BB9A-4055-8B0F-8E8DD34B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EC515-1332-4DAF-B8E5-1944D940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CDC61-60A8-4753-94B4-6A5B8EBC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118-371F-414A-A155-335D76D4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8A4FC-69BE-4844-9E47-6D3381E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047FB-70E7-4DF8-84DF-0B47E141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7665A-CC3E-4F8A-91AE-A9A3244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4AF69-A36A-436F-958C-74821B81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EBAF6-B5F1-471B-BC1D-CA4B844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9B29B-15D8-456F-BFF6-8EC01F9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05557-D8C8-488A-88E9-60C6B4F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82AF7-DF33-4512-8869-09E7FD4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97C7F-E81E-4D25-826F-C4CF7A2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9CC73-E94C-4891-80A3-960E5521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9DC-42CE-487E-85D0-E9847E03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8F115-5057-45C6-AC09-112FB95F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19726-CF36-4F8F-B9E9-94B274B2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1315F-91E2-4A92-BA14-CD65CA3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4F1B1-73DA-45C6-B856-EB801131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4A265-8B2D-49EF-BF20-689C72CD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4FA66-874E-43D4-90E3-D24BCFF8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96EA8-CE86-47F3-BCD8-BD4CC64C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F8F42-9AF2-4EB7-9DCC-944EA10E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60C88-14BE-45F7-97D1-86ABB29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B64FB-FDDC-4A97-96A0-DE217486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21E2-69C8-42F3-9EDD-030C0480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9CC09-DF99-4655-890F-62B35B23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A6D1F-3F0B-4C45-99F7-25BD5157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14F5-F20D-45F2-B43B-B0AF160D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1D47D-00F4-44CD-A142-3AEF2476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157C8-6EBB-4330-BEDC-273EF21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ABC46-B8F9-4DB6-9DC6-E8F2225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20297-D08E-4541-8C54-6250CD8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14BC7-CC9A-414F-B1C2-4A2F49B1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0235E-8F90-449C-B8C4-58996124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36E58-59E1-47A1-ABBD-2B8F7DA5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0207-FA22-4EFB-91CA-69D74283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19293-00C5-4EF4-A3DB-8B39581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39AFE-7A9C-4331-B348-FD73337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0C4E5-2621-405F-AE0D-3F334646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5D124-E52C-4D63-9DB4-0D9D3984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38089-ED4F-460D-B908-9124C933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15122-D830-4D0A-B568-E6A3577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D4F5F-E698-4269-824F-1DD262F3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81AE7-FBE7-4E42-A451-734B742A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417C0-DD27-48B1-B45C-F37E7F04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7B91C-E54C-44E4-B8BF-27845451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DF0B-C59E-4703-863C-A3C207AD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F7AA8-D827-414F-A485-B7C1413E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F5C49-A023-42EE-89DD-00434E07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73270-18F4-42A7-B302-E4CF0A59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19A33-9199-420B-984C-6B64962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A2B8C-F327-418A-8240-69EA771A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E897B-A70B-43F7-9299-F9C300EC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497B6-4EC6-40E7-A4FE-56E7A81E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1788-220A-4170-8E03-9A098BA5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7422-4C6A-432E-AB67-3CDE5667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B2E-08D2-4C72-B8F2-DC2E2958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2F9A-A0EE-40E8-BC8C-D30E96B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67B-3078-4FCD-9F4F-54E8F95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C2DB-8D29-412E-AFBB-12BF0B7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4AB9-C840-4984-9A9E-41211B1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327E-A71D-4211-A3FD-1692BEB1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428A-98EF-45D8-8FBC-568F9490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E6BA-1B26-48A4-89C5-BFFEA9C7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3A68-A82A-4262-ADD1-5B9ED874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278B-943A-40E3-8068-5CB70530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813A-3405-4B30-8198-E52753EF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B3C1-6EE9-4308-872C-FF5801A7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1D73-4AA0-4DDD-9FED-47440A05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63E-CABB-4FEB-B05F-92E7678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6CB0-CE73-46A9-99D4-18191B3B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2349-1E77-4C55-B57C-56DB6C2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4701-EB18-4D37-A043-D307DB49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F33C-9070-479D-B156-712B120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EDD0-85E1-45DD-B157-A86A959E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3CB3-2CA6-487D-9FAF-9E00BB7E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CD62-F984-4AA1-8755-0363166C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68CE-B2F3-4868-8396-7AE248DF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67D7-AEC4-43CB-8815-6912B6B3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4616-BCAA-46E5-9AD2-6A3D0754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8F1-E7E5-4267-A0F7-83622AE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400E-4403-4412-AF02-99DB198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BCEA-71FC-4F32-8A5F-16655722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C7E8-A82D-4062-9A80-67F7CFEA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F419-CF9E-4E2D-AC91-151ED48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2E4E-7059-48F9-995D-0AF5CBB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8873-B55B-48A9-861C-03798E48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9FD1-AF0D-4E2C-8F46-A7828295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01D0-254C-460D-B70D-074377B7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A256-233D-4457-B9A7-9407F07D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7760F-1D49-4C35-9377-FF9C50A0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949-4494-423C-91C9-9230EA9E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2297-5D26-43AB-AA42-F29F3B69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3882-8DDF-4913-AA46-0EEB4881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F843-C038-456F-B080-D39B65AB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46E83-8157-4B9B-A40F-8851A803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AD62-78DB-46AC-9706-08EE00CD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09A3-2275-454E-B6DD-48E79BDC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55493-2327-469C-9025-3D4D949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4D68-21C1-40B3-A18C-589A3E10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525A-684F-4DBB-B61E-D6A4DE51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651A-A485-4929-80F1-842F19A5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54A-56E2-4BDC-B80E-C49BA7FF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7204-5DF0-4A36-88F3-304B8CC8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ED59-C8C2-487F-B1C4-345138D4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0FFB-01E9-4118-B9F5-666E13B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D24D-67D3-43AA-81E2-72FCAAB0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9C7B-4B07-452E-B6D1-3265904F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674E-276B-42C3-BE5C-DBF1C078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7062-F0AC-404C-ABD1-FA91BEC6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49831-03BB-4909-855F-C56C105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D665-A587-4E2B-9D49-C4449F2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1820-0DE2-436E-8469-E9E3B101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001-0915-48F5-80D5-FA6A840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9F6A2-8353-425D-B0AF-3DA5A9A2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CEBF9-96D0-4C96-A284-B6747556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921A-926A-431F-8F99-184DFED0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ECABC-ACD8-4374-8709-37A97B87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AD8C6-28A1-42DC-8A9A-2A776F06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364DD-7359-4D52-B0CA-725AFEC7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10FB0-4BE1-4957-AC1E-45D2D2F6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123D0-A27C-4636-A60B-F51F20DD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FFD96-59AC-4A16-85EA-B4B943D0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4A01-E2CA-42CA-A071-A3615E85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D97-6975-4FE6-B8B7-70D20E3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03DC-EC06-4CF4-8CF3-0C59FAE8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D8C0-5175-4338-BF66-81EB333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4E39-9DFE-427F-AFD5-435B1F80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5F111-2A14-412F-B7DC-9FF36D4A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3FD46-47AA-4F02-897E-BF6CC074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A61B5-3B2C-4A74-8CC0-3E381DCF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AD488-0982-4099-8710-0C2E342E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4E091-1F7B-43AB-BD40-73B6D6BA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16EA-CE58-4358-BE60-9142AC6E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E1F4-E7EB-4143-AEC8-1672CA49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7EC-677D-4AA0-96A7-236881F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809BF-ED13-48DE-9D48-4E38683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431DE-F2FF-4FBC-B9B7-35EF8990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29538-ADA7-4534-9EB9-8B71549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A30CE-CEBA-4F99-B428-9EA04FB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3E78-3419-4AE2-8DB7-80F49759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41A05-E9AC-4F7F-8F7C-2B444155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96545-B9FF-4B82-9EBE-CC2DBC1B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37CCC-2246-4B4B-8D8F-DEE8F347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B4577-8B24-442F-83D7-8628D3DC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71FCC-B122-4EC7-8579-9A1F4A2F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4C8-92F3-463C-B9CB-8575DFC6C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7FA-E844-46EE-90F3-4CF00CAF235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3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B35-3A9A-4478-A9D3-09FBC32C870D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E954-B667-4D1F-932F-B596DDCF9B4B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AD3F-B3E9-4DF6-B452-859328D6883B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DE98-0DC2-43CB-959B-BDAF2A957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f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f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3EB6-816B-4B02-8844-32D482129F1B}" type="slidenum">
              <a:rPr b="0" lang="en-US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4BD-6360-49C9-9D88-6F0CAEC577B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10C-B7D1-4E68-A80B-DC99C1BA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6927-23CF-4AB1-84CD-FC08A494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B074-B065-4695-B43F-A920946F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2E37-E946-4BB3-9A22-72179B819F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2446-A916-4321-B5B7-05DD34F95D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&#233;ctor_Abad_Faciolince" TargetMode="External"/><Relationship Id="rId2" Type="http://schemas.openxmlformats.org/officeDocument/2006/relationships/hyperlink" Target="http://daytranslations.com/famous_colombians.aspx" TargetMode="External"/><Relationship Id="rId3" Type="http://schemas.openxmlformats.org/officeDocument/2006/relationships/hyperlink" Target="http://en.wikipedia.org/wiki/Andes" TargetMode="External"/><Relationship Id="rId4" Type="http://schemas.openxmlformats.org/officeDocument/2006/relationships/hyperlink" Target="http://en.wikipedia.org/wiki/Amazon_Rainforest" TargetMode="External"/><Relationship Id="rId5" Type="http://schemas.openxmlformats.org/officeDocument/2006/relationships/hyperlink" Target="http://wikitravel.org/en/El_Parque_Tayrona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mb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nnah Staska and Amanda Va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ame in th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to Colo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rought Catholicism and African sl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s and indigenous people of Colombia mixed to form to form zambos creating a new ethno- racial group i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%C3%A9ctor_Abad_Facioli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aytranslations.com/famous_colombians.asp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An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Amazon_Rainfor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ikitravel.org/en/El_Parque_Tayr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Gabriel_Garc%C3%ADa_M%C3%A1rq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Santiago_Gamb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opulation.mongabay.com/population/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veryculture.com/wc/Brazil-to-Congo-Republic-of/Columbia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.wikipedia.org/wiki/Tourism_in_Colombia http://en.wikipedia.org/wiki/Government_of_Colom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n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Weasel- an endangered species. Weighs approximately 138 g. They live clos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ton Top Tamarin- Weighs about 1 pound. Found nea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Squirrel Monkey- Exhibits grayish- brown coloration with a very pale orange ti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Colombian Weasel.jpg"/>
          <p:cNvPicPr/>
          <p:nvPr/>
        </p:nvPicPr>
        <p:blipFill>
          <a:blip r:embed="rId2"/>
          <a:stretch/>
        </p:blipFill>
        <p:spPr>
          <a:xfrm>
            <a:off x="914400" y="4724280"/>
            <a:ext cx="1765440" cy="1276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otton Top Tamarin.jpg"/>
          <p:cNvPicPr/>
          <p:nvPr/>
        </p:nvPicPr>
        <p:blipFill>
          <a:blip r:embed="rId3"/>
          <a:stretch/>
        </p:blipFill>
        <p:spPr>
          <a:xfrm>
            <a:off x="4114800" y="4724280"/>
            <a:ext cx="1219320" cy="1238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Squirrel Monkey.jpg"/>
          <p:cNvPicPr/>
          <p:nvPr/>
        </p:nvPicPr>
        <p:blipFill>
          <a:blip r:embed="rId4"/>
          <a:stretch/>
        </p:blipFill>
        <p:spPr>
          <a:xfrm>
            <a:off x="6781680" y="4648320"/>
            <a:ext cx="114300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abriel Garcia Marquez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wrote the novel, “One Hundred Years of Solitude”, in 1967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antiago Gamboa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uthor of the travel book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ctubre en Pekin(October in Pekin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èctor Abad Faciolince~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ad is best known for his novel,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Angos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gotà        Pop: 7,102,6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i            Pop: 2,392,87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ellín     Pop: 1,999,97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buClr>
                <a:srgbClr val="00b0f0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ogotà                                     Cali                                 Medellí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0" name="Picture 4" descr="Bogota.jpg"/>
          <p:cNvPicPr/>
          <p:nvPr/>
        </p:nvPicPr>
        <p:blipFill>
          <a:blip r:embed="rId2"/>
          <a:stretch/>
        </p:blipFill>
        <p:spPr>
          <a:xfrm>
            <a:off x="762120" y="4648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Cali Colombia.jpg"/>
          <p:cNvPicPr/>
          <p:nvPr/>
        </p:nvPicPr>
        <p:blipFill>
          <a:blip r:embed="rId3"/>
          <a:stretch/>
        </p:blipFill>
        <p:spPr>
          <a:xfrm>
            <a:off x="3048120" y="4572000"/>
            <a:ext cx="2409840" cy="1625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medellin.jpg"/>
          <p:cNvPicPr/>
          <p:nvPr/>
        </p:nvPicPr>
        <p:blipFill>
          <a:blip r:embed="rId4"/>
          <a:stretch/>
        </p:blipFill>
        <p:spPr>
          <a:xfrm>
            <a:off x="5791320" y="4800600"/>
            <a:ext cx="2023920" cy="133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ccer is the most popular sport b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ere are many other sports played. There is not a specific one for 2 &amp; 3. Two other sports are cycling and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y/Top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s Mountain Range- worlds longest continental mountain range. Continental range of highlands along the West Coast of South America. 7,000 km long (4,300 m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zon Rainforest- only a little part of the rainforest is found in Colombia. It is believed to have formed in the Eocene 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anos- A vast tropical grassland plain. It is east of the Andes Mountains. In northwest South America, especially Colombia and Venezu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Content Placeholder 3" descr="Colombian Natiional Coffee Park.jpg"/>
          <p:cNvPicPr/>
          <p:nvPr/>
        </p:nvPicPr>
        <p:blipFill>
          <a:blip r:embed="rId1"/>
          <a:stretch/>
        </p:blipFill>
        <p:spPr>
          <a:xfrm>
            <a:off x="762120" y="1905120"/>
            <a:ext cx="1761840" cy="1838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Bogota botanical gardens.jpg"/>
          <p:cNvPicPr/>
          <p:nvPr/>
        </p:nvPicPr>
        <p:blipFill>
          <a:blip r:embed="rId2"/>
          <a:stretch/>
        </p:blipFill>
        <p:spPr>
          <a:xfrm>
            <a:off x="4991040" y="17524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Gold Museum.jpg"/>
          <p:cNvPicPr/>
          <p:nvPr/>
        </p:nvPicPr>
        <p:blipFill>
          <a:blip r:embed="rId3"/>
          <a:stretch/>
        </p:blipFill>
        <p:spPr>
          <a:xfrm>
            <a:off x="2819520" y="396252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6"/>
          <p:cNvSpPr/>
          <p:nvPr/>
        </p:nvSpPr>
        <p:spPr>
          <a:xfrm>
            <a:off x="685800" y="4038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n National Coffe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2819520" y="5943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Museum in Bogo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5943600" y="39625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gotà Botanical Gar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Content Placeholder 3" descr="Colombian Flag.jpg"/>
          <p:cNvPicPr/>
          <p:nvPr/>
        </p:nvPicPr>
        <p:blipFill>
          <a:blip r:embed="rId1"/>
          <a:stretch/>
        </p:blipFill>
        <p:spPr>
          <a:xfrm>
            <a:off x="609480" y="2101680"/>
            <a:ext cx="2676600" cy="1784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Colombia Map.gif"/>
          <p:cNvPicPr/>
          <p:nvPr/>
        </p:nvPicPr>
        <p:blipFill>
          <a:blip r:embed="rId2"/>
          <a:stretch/>
        </p:blipFill>
        <p:spPr>
          <a:xfrm>
            <a:off x="6172200" y="2209680"/>
            <a:ext cx="2509920" cy="2697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Colombian Coat.jpg"/>
          <p:cNvPicPr/>
          <p:nvPr/>
        </p:nvPicPr>
        <p:blipFill>
          <a:blip r:embed="rId3"/>
          <a:stretch/>
        </p:blipFill>
        <p:spPr>
          <a:xfrm>
            <a:off x="3505320" y="3962520"/>
            <a:ext cx="2097000" cy="2160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of Colo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iberal democracy with separation of powers into executive, judicial, and legislative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25:46Z</dcterms:created>
  <dc:creator>User</dc:creator>
  <dc:description/>
  <dc:language>en-US</dc:language>
  <cp:lastModifiedBy>954381</cp:lastModifiedBy>
  <dcterms:modified xsi:type="dcterms:W3CDTF">2011-02-11T20:03:21Z</dcterms:modified>
  <cp:revision>21</cp:revision>
  <dc:subject/>
  <dc:title>Colombia!</dc:title>
</cp:coreProperties>
</file>